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DACC0-981C-49BC-9A32-F22DCBFC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830D-E986-4062-AC85-BA1F3CB6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E4E03-8C37-4147-923C-63E4FC46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68E54-3C50-428B-9ECC-50662F80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A629-0043-4F67-9E61-2AF2323E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9A09-F95D-4987-AEB5-F1CFED0E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DDBD-546B-4AD5-8AD1-0325B777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270A-816B-44EC-B721-68205C70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150C-A0A7-4D7E-8DE1-6F9BF0B4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D1AC-C65E-4865-B828-4DC9D8DA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86A1-0ACF-4E4A-98CC-C3FBDD10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9418-B092-4C85-9124-E26B0E1D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5101-D313-4685-8504-A456880D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E037-03E7-49D9-8A67-253336C5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B00F-F19D-4799-B8DF-1D333616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2B85-70F6-4430-99B3-32907FC8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11ED-1086-4C74-9957-C1270352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74F43-5463-4180-9E6C-BD2AE5AC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7FA5-171B-4219-9F4C-3A3A94A9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409DA-D7CF-4F03-A0A8-206CB3B6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28B27-4FFB-4A7A-B1D4-6EC66430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D9A08-911A-423E-9F24-7F457E01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7CF9E-B84A-4277-8C06-63E1E3AF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A54A8-A36C-4145-96BB-6CB5627E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DB2F-BBC2-453B-8A41-947EE621F5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955B-CFCE-4AC7-B1FC-1F96908AC3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Электролиз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s4"/>
          <p:cNvPicPr/>
          <p:nvPr/>
        </p:nvPicPr>
        <p:blipFill>
          <a:blip r:embed="rId1"/>
          <a:stretch/>
        </p:blipFill>
        <p:spPr>
          <a:xfrm>
            <a:off x="533520" y="415296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pannung_5"/>
          <p:cNvPicPr/>
          <p:nvPr/>
        </p:nvPicPr>
        <p:blipFill>
          <a:blip r:embed="rId2"/>
          <a:stretch/>
        </p:blipFill>
        <p:spPr>
          <a:xfrm>
            <a:off x="6553080" y="152280"/>
            <a:ext cx="2352960" cy="1949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spannung_2"/>
          <p:cNvPicPr/>
          <p:nvPr/>
        </p:nvPicPr>
        <p:blipFill>
          <a:blip r:embed="rId3"/>
          <a:stretch/>
        </p:blipFill>
        <p:spPr>
          <a:xfrm>
            <a:off x="6962760" y="3962520"/>
            <a:ext cx="200016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brownlee"/>
          <p:cNvPicPr/>
          <p:nvPr/>
        </p:nvPicPr>
        <p:blipFill>
          <a:blip r:embed="rId4"/>
          <a:stretch/>
        </p:blipFill>
        <p:spPr>
          <a:xfrm>
            <a:off x="4800600" y="4876920"/>
            <a:ext cx="14778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kevin2-sm"/>
          <p:cNvPicPr/>
          <p:nvPr/>
        </p:nvPicPr>
        <p:blipFill>
          <a:blip r:embed="rId5"/>
          <a:stretch/>
        </p:blipFill>
        <p:spPr>
          <a:xfrm>
            <a:off x="152280" y="228600"/>
            <a:ext cx="15703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крытие металлов слоем другого металла при помощи электролиза (гальваностегия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image486"/>
          <p:cNvPicPr/>
          <p:nvPr/>
        </p:nvPicPr>
        <p:blipFill>
          <a:blip r:embed="rId1"/>
          <a:stretch/>
        </p:blipFill>
        <p:spPr>
          <a:xfrm>
            <a:off x="533520" y="1981080"/>
            <a:ext cx="75438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лучение копий с предметов при помощи электролиза (гальванопластика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Рафинирование (очистка) мет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image490"/>
          <p:cNvPicPr/>
          <p:nvPr/>
        </p:nvPicPr>
        <p:blipFill>
          <a:blip r:embed="rId1"/>
          <a:stretch/>
        </p:blipFill>
        <p:spPr>
          <a:xfrm>
            <a:off x="0" y="1905120"/>
            <a:ext cx="85345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560" y="4876920"/>
            <a:ext cx="8381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атическое изображение электрохимической ячейки для исследования электро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250px-ElectrochemCell"/>
          <p:cNvPicPr/>
          <p:nvPr/>
        </p:nvPicPr>
        <p:blipFill>
          <a:blip r:embed="rId1"/>
          <a:stretch/>
        </p:blipFill>
        <p:spPr>
          <a:xfrm>
            <a:off x="762120" y="457200"/>
            <a:ext cx="8153280" cy="4245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71640" y="1773360"/>
            <a:ext cx="7129440" cy="4464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403280" y="981000"/>
            <a:ext cx="151308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156360" y="981000"/>
            <a:ext cx="151272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 flipV="1">
            <a:off x="190800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1870200" y="404640"/>
            <a:ext cx="20160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V="1">
            <a:off x="716436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5148360" y="404640"/>
            <a:ext cx="20509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851280" y="189000"/>
            <a:ext cx="129708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4427640" y="26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4643280" y="333360"/>
            <a:ext cx="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2124000" y="549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5867280" y="549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619280" y="1125360"/>
            <a:ext cx="10098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6443640" y="1125360"/>
            <a:ext cx="10080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2136600" y="134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20960" y="1557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6732720" y="1565280"/>
            <a:ext cx="431640" cy="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0"/>
          <p:cNvSpPr/>
          <p:nvPr/>
        </p:nvSpPr>
        <p:spPr>
          <a:xfrm>
            <a:off x="2268360" y="350028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1"/>
          <p:cNvSpPr/>
          <p:nvPr/>
        </p:nvSpPr>
        <p:spPr>
          <a:xfrm>
            <a:off x="2627280" y="5661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2"/>
          <p:cNvSpPr/>
          <p:nvPr/>
        </p:nvSpPr>
        <p:spPr>
          <a:xfrm>
            <a:off x="1908000" y="5013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3"/>
          <p:cNvSpPr/>
          <p:nvPr/>
        </p:nvSpPr>
        <p:spPr>
          <a:xfrm>
            <a:off x="2627280" y="458136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2771640" y="3789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1979640" y="4005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2124000" y="2997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2700360" y="27082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8"/>
          <p:cNvSpPr/>
          <p:nvPr/>
        </p:nvSpPr>
        <p:spPr>
          <a:xfrm>
            <a:off x="2627280" y="206064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9"/>
          <p:cNvSpPr/>
          <p:nvPr/>
        </p:nvSpPr>
        <p:spPr>
          <a:xfrm>
            <a:off x="2556000" y="126828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0"/>
          <p:cNvSpPr/>
          <p:nvPr/>
        </p:nvSpPr>
        <p:spPr>
          <a:xfrm>
            <a:off x="7020000" y="56610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1"/>
          <p:cNvSpPr/>
          <p:nvPr/>
        </p:nvSpPr>
        <p:spPr>
          <a:xfrm>
            <a:off x="6516720" y="57340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2"/>
          <p:cNvSpPr/>
          <p:nvPr/>
        </p:nvSpPr>
        <p:spPr>
          <a:xfrm>
            <a:off x="6372360" y="515772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3"/>
          <p:cNvSpPr/>
          <p:nvPr/>
        </p:nvSpPr>
        <p:spPr>
          <a:xfrm>
            <a:off x="7236000" y="5229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4"/>
          <p:cNvSpPr/>
          <p:nvPr/>
        </p:nvSpPr>
        <p:spPr>
          <a:xfrm>
            <a:off x="6659640" y="479736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"/>
          <p:cNvSpPr/>
          <p:nvPr/>
        </p:nvSpPr>
        <p:spPr>
          <a:xfrm>
            <a:off x="6588000" y="4437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6"/>
          <p:cNvSpPr/>
          <p:nvPr/>
        </p:nvSpPr>
        <p:spPr>
          <a:xfrm>
            <a:off x="6300720" y="39337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7"/>
          <p:cNvSpPr/>
          <p:nvPr/>
        </p:nvSpPr>
        <p:spPr>
          <a:xfrm>
            <a:off x="6804000" y="364500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8"/>
          <p:cNvSpPr/>
          <p:nvPr/>
        </p:nvSpPr>
        <p:spPr>
          <a:xfrm>
            <a:off x="7020000" y="314172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9"/>
          <p:cNvSpPr/>
          <p:nvPr/>
        </p:nvSpPr>
        <p:spPr>
          <a:xfrm>
            <a:off x="6588000" y="285264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40"/>
          <p:cNvSpPr/>
          <p:nvPr/>
        </p:nvSpPr>
        <p:spPr>
          <a:xfrm>
            <a:off x="7164360" y="2565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1"/>
          <p:cNvSpPr/>
          <p:nvPr/>
        </p:nvSpPr>
        <p:spPr>
          <a:xfrm>
            <a:off x="6516720" y="242100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3"/>
          <p:cNvSpPr/>
          <p:nvPr/>
        </p:nvSpPr>
        <p:spPr>
          <a:xfrm>
            <a:off x="4275000" y="1773360"/>
            <a:ext cx="432000" cy="431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4"/>
          <p:cNvSpPr/>
          <p:nvPr/>
        </p:nvSpPr>
        <p:spPr>
          <a:xfrm>
            <a:off x="4716360" y="58309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фраг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6"/>
          <p:cNvSpPr/>
          <p:nvPr/>
        </p:nvSpPr>
        <p:spPr>
          <a:xfrm flipH="1" flipV="1">
            <a:off x="4642920" y="5734080"/>
            <a:ext cx="2890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7"/>
          <p:cNvSpPr/>
          <p:nvPr/>
        </p:nvSpPr>
        <p:spPr>
          <a:xfrm flipV="1">
            <a:off x="1619280" y="18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8"/>
          <p:cNvSpPr/>
          <p:nvPr/>
        </p:nvSpPr>
        <p:spPr>
          <a:xfrm>
            <a:off x="1619280" y="18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0"/>
          <p:cNvSpPr/>
          <p:nvPr/>
        </p:nvSpPr>
        <p:spPr>
          <a:xfrm>
            <a:off x="2484360" y="11592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58"/>
              <p:cNvSpPr txBox="1"/>
              <p:nvPr/>
            </p:nvSpPr>
            <p:spPr>
              <a:xfrm>
                <a:off x="2627280" y="0"/>
                <a:ext cx="2667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5" name="Text Box 53"/>
          <p:cNvSpPr/>
          <p:nvPr/>
        </p:nvSpPr>
        <p:spPr>
          <a:xfrm>
            <a:off x="2268360" y="6308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    +   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7"/>
          <p:cNvSpPr/>
          <p:nvPr/>
        </p:nvSpPr>
        <p:spPr>
          <a:xfrm flipH="1" flipV="1">
            <a:off x="2957760" y="5850720"/>
            <a:ext cx="938520" cy="52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8"/>
          <p:cNvSpPr/>
          <p:nvPr/>
        </p:nvSpPr>
        <p:spPr>
          <a:xfrm flipV="1">
            <a:off x="5093640" y="5976000"/>
            <a:ext cx="1190160" cy="45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9"/>
          <p:cNvSpPr/>
          <p:nvPr/>
        </p:nvSpPr>
        <p:spPr>
          <a:xfrm>
            <a:off x="3995640" y="638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0"/>
          <p:cNvSpPr/>
          <p:nvPr/>
        </p:nvSpPr>
        <p:spPr>
          <a:xfrm>
            <a:off x="4932360" y="638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1"/>
          <p:cNvSpPr/>
          <p:nvPr/>
        </p:nvSpPr>
        <p:spPr>
          <a:xfrm>
            <a:off x="5003640" y="630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28240" y="5943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а электролиза расплава 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5-12"/>
          <p:cNvPicPr/>
          <p:nvPr/>
        </p:nvPicPr>
        <p:blipFill>
          <a:blip r:embed="rId1"/>
          <a:stretch/>
        </p:blipFill>
        <p:spPr>
          <a:xfrm>
            <a:off x="762120" y="380880"/>
            <a:ext cx="8001000" cy="539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5-13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6400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zn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334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e1"/>
          <p:cNvPicPr/>
          <p:nvPr/>
        </p:nvPicPr>
        <p:blipFill>
          <a:blip r:embed="rId1"/>
          <a:stretch/>
        </p:blipFill>
        <p:spPr>
          <a:xfrm>
            <a:off x="304920" y="15238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ектролиз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e3"/>
          <p:cNvPicPr/>
          <p:nvPr/>
        </p:nvPicPr>
        <p:blipFill>
          <a:blip r:embed="rId2"/>
          <a:stretch/>
        </p:blipFill>
        <p:spPr>
          <a:xfrm>
            <a:off x="3962520" y="15238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e2"/>
          <p:cNvPicPr/>
          <p:nvPr/>
        </p:nvPicPr>
        <p:blipFill>
          <a:blip r:embed="rId3"/>
          <a:stretch/>
        </p:blipFill>
        <p:spPr>
          <a:xfrm>
            <a:off x="304920" y="41148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e4"/>
          <p:cNvPicPr/>
          <p:nvPr/>
        </p:nvPicPr>
        <p:blipFill>
          <a:blip r:embed="rId4"/>
          <a:stretch/>
        </p:blipFill>
        <p:spPr>
          <a:xfrm>
            <a:off x="3962520" y="41148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91"/>
              <p:cNvSpPr txBox="1"/>
              <p:nvPr/>
            </p:nvSpPr>
            <p:spPr>
              <a:xfrm>
                <a:off x="6492960" y="2583000"/>
                <a:ext cx="3412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92"/>
              <p:cNvSpPr txBox="1"/>
              <p:nvPr/>
            </p:nvSpPr>
            <p:spPr>
              <a:xfrm>
                <a:off x="3998880" y="2209680"/>
                <a:ext cx="7160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4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71640" y="1773360"/>
            <a:ext cx="7129440" cy="4464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03280" y="981000"/>
            <a:ext cx="151308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6156360" y="981000"/>
            <a:ext cx="151272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8"/>
          <p:cNvSpPr/>
          <p:nvPr/>
        </p:nvSpPr>
        <p:spPr>
          <a:xfrm flipV="1">
            <a:off x="190800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9"/>
          <p:cNvSpPr/>
          <p:nvPr/>
        </p:nvSpPr>
        <p:spPr>
          <a:xfrm>
            <a:off x="1870200" y="404640"/>
            <a:ext cx="20160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0"/>
          <p:cNvSpPr/>
          <p:nvPr/>
        </p:nvSpPr>
        <p:spPr>
          <a:xfrm flipV="1">
            <a:off x="716436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5148360" y="404640"/>
            <a:ext cx="20509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3851280" y="189000"/>
            <a:ext cx="129708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4427640" y="26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4643280" y="333360"/>
            <a:ext cx="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2124000" y="549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5867280" y="549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7"/>
          <p:cNvSpPr/>
          <p:nvPr/>
        </p:nvSpPr>
        <p:spPr>
          <a:xfrm>
            <a:off x="1619280" y="1125360"/>
            <a:ext cx="10098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8"/>
          <p:cNvSpPr/>
          <p:nvPr/>
        </p:nvSpPr>
        <p:spPr>
          <a:xfrm>
            <a:off x="6443640" y="1125360"/>
            <a:ext cx="10080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>
            <a:off x="2136600" y="134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1920960" y="1557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6732720" y="1565280"/>
            <a:ext cx="431640" cy="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2"/>
          <p:cNvSpPr/>
          <p:nvPr/>
        </p:nvSpPr>
        <p:spPr>
          <a:xfrm>
            <a:off x="2268360" y="350028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23"/>
          <p:cNvSpPr/>
          <p:nvPr/>
        </p:nvSpPr>
        <p:spPr>
          <a:xfrm>
            <a:off x="2627280" y="5661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4"/>
          <p:cNvSpPr/>
          <p:nvPr/>
        </p:nvSpPr>
        <p:spPr>
          <a:xfrm>
            <a:off x="1908000" y="5013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5"/>
          <p:cNvSpPr/>
          <p:nvPr/>
        </p:nvSpPr>
        <p:spPr>
          <a:xfrm>
            <a:off x="2716200" y="42894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6"/>
          <p:cNvSpPr/>
          <p:nvPr/>
        </p:nvSpPr>
        <p:spPr>
          <a:xfrm>
            <a:off x="2771640" y="3789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7"/>
          <p:cNvSpPr/>
          <p:nvPr/>
        </p:nvSpPr>
        <p:spPr>
          <a:xfrm>
            <a:off x="1979640" y="4005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8"/>
          <p:cNvSpPr/>
          <p:nvPr/>
        </p:nvSpPr>
        <p:spPr>
          <a:xfrm>
            <a:off x="2124000" y="2997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2700360" y="27082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2627280" y="206064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2556000" y="126828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7020000" y="56610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6516720" y="57340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6372360" y="515772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7236000" y="5229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6659640" y="479736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37"/>
          <p:cNvSpPr/>
          <p:nvPr/>
        </p:nvSpPr>
        <p:spPr>
          <a:xfrm>
            <a:off x="6588000" y="4437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8"/>
          <p:cNvSpPr/>
          <p:nvPr/>
        </p:nvSpPr>
        <p:spPr>
          <a:xfrm>
            <a:off x="6300720" y="39337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9"/>
          <p:cNvSpPr/>
          <p:nvPr/>
        </p:nvSpPr>
        <p:spPr>
          <a:xfrm>
            <a:off x="6804000" y="364500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40"/>
          <p:cNvSpPr/>
          <p:nvPr/>
        </p:nvSpPr>
        <p:spPr>
          <a:xfrm>
            <a:off x="7020000" y="314172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41"/>
          <p:cNvSpPr/>
          <p:nvPr/>
        </p:nvSpPr>
        <p:spPr>
          <a:xfrm>
            <a:off x="6588000" y="285264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42"/>
          <p:cNvSpPr/>
          <p:nvPr/>
        </p:nvSpPr>
        <p:spPr>
          <a:xfrm>
            <a:off x="7164360" y="2565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3"/>
          <p:cNvSpPr/>
          <p:nvPr/>
        </p:nvSpPr>
        <p:spPr>
          <a:xfrm>
            <a:off x="6516720" y="242100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44"/>
          <p:cNvSpPr/>
          <p:nvPr/>
        </p:nvSpPr>
        <p:spPr>
          <a:xfrm>
            <a:off x="1873080" y="9079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93"/>
              <p:cNvSpPr txBox="1"/>
              <p:nvPr/>
            </p:nvSpPr>
            <p:spPr>
              <a:xfrm>
                <a:off x="4572000" y="2924280"/>
                <a:ext cx="673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94"/>
              <p:cNvSpPr txBox="1"/>
              <p:nvPr/>
            </p:nvSpPr>
            <p:spPr>
              <a:xfrm>
                <a:off x="4572000" y="4005360"/>
                <a:ext cx="673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5"/>
              <p:cNvSpPr txBox="1"/>
              <p:nvPr/>
            </p:nvSpPr>
            <p:spPr>
              <a:xfrm>
                <a:off x="3995640" y="3618000"/>
                <a:ext cx="7207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2" name="Group 72"/>
          <p:cNvGrpSpPr/>
          <p:nvPr/>
        </p:nvGrpSpPr>
        <p:grpSpPr>
          <a:xfrm>
            <a:off x="3059280" y="4869000"/>
            <a:ext cx="444240" cy="369720"/>
            <a:chOff x="3059280" y="4869000"/>
            <a:chExt cx="444240" cy="369720"/>
          </a:xfrm>
        </p:grpSpPr>
        <mc:AlternateContent>
          <mc:Choice xmlns:a14="http://schemas.microsoft.com/office/drawing/2010/main" Requires="a14">
            <p:sp>
              <p:nvSpPr>
                <p:cNvPr id="373" name="Object 96"/>
                <p:cNvSpPr txBox="1"/>
                <p:nvPr/>
              </p:nvSpPr>
              <p:spPr>
                <a:xfrm>
                  <a:off x="3059280" y="4869000"/>
                  <a:ext cx="44424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74" name="Group 65"/>
            <p:cNvGrpSpPr/>
            <p:nvPr/>
          </p:nvGrpSpPr>
          <p:grpSpPr>
            <a:xfrm>
              <a:off x="3347640" y="4881600"/>
              <a:ext cx="144360" cy="169920"/>
              <a:chOff x="3347640" y="4881600"/>
              <a:chExt cx="144360" cy="169920"/>
            </a:xfrm>
          </p:grpSpPr>
          <p:sp>
            <p:nvSpPr>
              <p:cNvPr id="375" name="Line 66"/>
              <p:cNvSpPr/>
              <p:nvPr/>
            </p:nvSpPr>
            <p:spPr>
              <a:xfrm flipH="1">
                <a:off x="3347640" y="4954680"/>
                <a:ext cx="14436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67"/>
              <p:cNvSpPr/>
              <p:nvPr/>
            </p:nvSpPr>
            <p:spPr>
              <a:xfrm>
                <a:off x="3428640" y="4881600"/>
                <a:ext cx="0" cy="1699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Group 71"/>
          <p:cNvGrpSpPr/>
          <p:nvPr/>
        </p:nvGrpSpPr>
        <p:grpSpPr>
          <a:xfrm>
            <a:off x="3048120" y="3130560"/>
            <a:ext cx="444240" cy="369720"/>
            <a:chOff x="3048120" y="3130560"/>
            <a:chExt cx="444240" cy="369720"/>
          </a:xfrm>
        </p:grpSpPr>
        <mc:AlternateContent>
          <mc:Choice xmlns:a14="http://schemas.microsoft.com/office/drawing/2010/main" Requires="a14">
            <p:sp>
              <p:nvSpPr>
                <p:cNvPr id="378" name="Object 97"/>
                <p:cNvSpPr txBox="1"/>
                <p:nvPr/>
              </p:nvSpPr>
              <p:spPr>
                <a:xfrm>
                  <a:off x="3048120" y="3130560"/>
                  <a:ext cx="44424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79" name="Group 68"/>
            <p:cNvGrpSpPr/>
            <p:nvPr/>
          </p:nvGrpSpPr>
          <p:grpSpPr>
            <a:xfrm>
              <a:off x="3335040" y="3166920"/>
              <a:ext cx="144360" cy="169920"/>
              <a:chOff x="3335040" y="3166920"/>
              <a:chExt cx="144360" cy="169920"/>
            </a:xfrm>
          </p:grpSpPr>
          <p:sp>
            <p:nvSpPr>
              <p:cNvPr id="380" name="Line 69"/>
              <p:cNvSpPr/>
              <p:nvPr/>
            </p:nvSpPr>
            <p:spPr>
              <a:xfrm flipH="1">
                <a:off x="3335040" y="3240000"/>
                <a:ext cx="14436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70"/>
              <p:cNvSpPr/>
              <p:nvPr/>
            </p:nvSpPr>
            <p:spPr>
              <a:xfrm>
                <a:off x="3416040" y="3166920"/>
                <a:ext cx="0" cy="1699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Rectangle 7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98"/>
              <p:cNvSpPr txBox="1"/>
              <p:nvPr/>
            </p:nvSpPr>
            <p:spPr>
              <a:xfrm>
                <a:off x="3025800" y="2133720"/>
                <a:ext cx="5763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Rectangle 76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99"/>
              <p:cNvSpPr txBox="1"/>
              <p:nvPr/>
            </p:nvSpPr>
            <p:spPr>
              <a:xfrm>
                <a:off x="3059280" y="3987720"/>
                <a:ext cx="576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Line 77"/>
          <p:cNvSpPr/>
          <p:nvPr/>
        </p:nvSpPr>
        <p:spPr>
          <a:xfrm flipH="1">
            <a:off x="2987280" y="2205000"/>
            <a:ext cx="14436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8"/>
          <p:cNvSpPr/>
          <p:nvPr/>
        </p:nvSpPr>
        <p:spPr>
          <a:xfrm flipH="1">
            <a:off x="2987280" y="4005360"/>
            <a:ext cx="14436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100"/>
              <p:cNvSpPr txBox="1"/>
              <p:nvPr/>
            </p:nvSpPr>
            <p:spPr>
              <a:xfrm>
                <a:off x="2987640" y="2708280"/>
                <a:ext cx="636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101"/>
              <p:cNvSpPr txBox="1"/>
              <p:nvPr/>
            </p:nvSpPr>
            <p:spPr>
              <a:xfrm>
                <a:off x="2987640" y="4221000"/>
                <a:ext cx="6364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Rectangle 8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02"/>
              <p:cNvSpPr txBox="1"/>
              <p:nvPr/>
            </p:nvSpPr>
            <p:spPr>
              <a:xfrm>
                <a:off x="2987640" y="5661000"/>
                <a:ext cx="459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2" name="Group 83"/>
          <p:cNvGrpSpPr/>
          <p:nvPr/>
        </p:nvGrpSpPr>
        <p:grpSpPr>
          <a:xfrm>
            <a:off x="5940360" y="4797360"/>
            <a:ext cx="647640" cy="647640"/>
            <a:chOff x="5940360" y="4797360"/>
            <a:chExt cx="647640" cy="647640"/>
          </a:xfrm>
        </p:grpSpPr>
        <p:sp>
          <p:nvSpPr>
            <p:cNvPr id="393" name="Oval 84"/>
            <p:cNvSpPr/>
            <p:nvPr/>
          </p:nvSpPr>
          <p:spPr>
            <a:xfrm>
              <a:off x="5940360" y="4797360"/>
              <a:ext cx="647640" cy="647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85"/>
            <p:cNvSpPr/>
            <p:nvPr/>
          </p:nvSpPr>
          <p:spPr>
            <a:xfrm>
              <a:off x="6013440" y="49399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86"/>
          <p:cNvGrpSpPr/>
          <p:nvPr/>
        </p:nvGrpSpPr>
        <p:grpSpPr>
          <a:xfrm>
            <a:off x="5940360" y="3716280"/>
            <a:ext cx="647640" cy="647640"/>
            <a:chOff x="5940360" y="3716280"/>
            <a:chExt cx="647640" cy="647640"/>
          </a:xfrm>
        </p:grpSpPr>
        <p:sp>
          <p:nvSpPr>
            <p:cNvPr id="396" name="Oval 87"/>
            <p:cNvSpPr/>
            <p:nvPr/>
          </p:nvSpPr>
          <p:spPr>
            <a:xfrm>
              <a:off x="5940360" y="3716280"/>
              <a:ext cx="647640" cy="647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88"/>
            <p:cNvSpPr/>
            <p:nvPr/>
          </p:nvSpPr>
          <p:spPr>
            <a:xfrm>
              <a:off x="6013440" y="38588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0047 L -5.55556E-007 -0.07338 E">
                                      <p:cBhvr>
                                        <p:cTn id="278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0.01435 0.00781 0.02893 0.01944 0.04444 C 0.03107 0.05995 0.05069 0.07986 0.06944 0.09259 C 0.08819 0.10532 0.12274 0.11666 0.13194 0.12037 C 0.14114 0.12407 0.13298 0.11944 0.125 0.11481 E">
                                      <p:cBhvr>
                                        <p:cTn id="280" dur="5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evt="end">
                                        <p:tn val="279"/>
                                      </p:cond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0.01435 0.00781 0.02893 0.01944 0.04444 C 0.03107 0.05995 0.05069 0.07986 0.06944 0.09259 C 0.08819 0.10532 0.12274 0.11666 0.13194 0.12037 C 0.14114 0.12407 0.13298 0.11944 0.125 0.11481 E">
                                      <p:cBhvr>
                                        <p:cTn id="283" dur="5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evt="end">
                                        <p:tn val="282"/>
                                      </p:cond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C -0.05052 0.02731 -0.10052 0.05463 -0.12517 0.06111 C -0.14965 0.06759 -0.14236 0.04259 -0.14705 0.03889 E">
                                      <p:cBhvr>
                                        <p:cTn id="286" dur="5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evt="end">
                                        <p:tn val="285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C -0.05052 0.02731 -0.10052 0.05463 -0.12517 0.06111 C -0.14965 0.06759 -0.14236 0.04259 -0.14705 0.03888 E">
                                      <p:cBhvr>
                                        <p:cTn id="289" dur="5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evt="end">
                                        <p:tn val="288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155 C -0.00695 0.00069 -0.00851 -0.01389 -0.01355 -0.01968 C -0.01858 -0.02547 -0.02726 -0.02269 -0.03577 -0.01968 E">
                                      <p:cBhvr>
                                        <p:cTn id="305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-0.00116 C -0.01129 0.01782 -0.01979 0.03703 -0.02622 0.03403 C -0.03264 0.03102 -0.03715 0.00555 -0.04149 -0.01968 E">
                                      <p:cBhvr>
                                        <p:cTn id="308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evt="end">
                                        <p:tn val="307"/>
                                      </p:cond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C 0.01614 -0.01644 0.03246 -0.03264 0.05278 -0.03334 C 0.07309 -0.03403 0.10625 -0.00162 0.12222 -0.00371 C 0.13819 -0.00579 0.1434 -0.02616 0.14861 -0.0463 E">
                                      <p:cBhvr>
                                        <p:cTn id="318" dur="5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3.33333E-006 C 0.01181 -0.01435 0.02362 -0.0287 0.04168 -0.02963 C 0.05973 -0.03056 0.09115 -0.00185 0.10834 -0.00556 C 0.12553 -0.00926 0.1349 -0.03056 0.14445 -0.05185 E">
                                      <p:cBhvr>
                                        <p:cTn id="320" dur="5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66667E-006 -3.7037E-007 C 0.01771 -0.01621 0.03541 -0.03241 0.04583 -0.06111 C 0.05625 -0.08982 0.05781 -0.12685 0.0625 -0.17222 C 0.06719 -0.2176 0.07083 -0.28496 0.07361 -0.33334 C 0.07639 -0.38172 0.07916 -0.43033 0.07916 -0.46297 C 0.07916 -0.4956 0.07083 -0.50764 0.07361 -0.52963 C 0.07639 -0.55162 0.08611 -0.57315 0.09583 -0.59445 E">
                                      <p:cBhvr>
                                        <p:cTn id="324" dur="5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evt="end">
                                        <p:tn val="323"/>
                                      </p:cond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12 0.00278 C -0.02101 0.0088 -0.00972 0.01505 -0.00156 0.01759 C 0.0066 0.02014 0.01146 0.01875 0.01649 0.01759 E">
                                      <p:cBhvr>
                                        <p:cTn id="331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30"/>
                                      </p:cond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11111E-006 C 0.01042 0.00764 0.02084 0.01551 0.02917 0.01667 C 0.0375 0.01782 0.04375 0.0125 0.05 0.00741 E">
                                      <p:cBhvr>
                                        <p:cTn id="334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8.14815E-006 C -0.04271 0.02268 -0.08524 0.0456 -0.10556 0.02962 C -0.12587 0.01365 -0.12639 -0.06297 -0.12222 -0.0963 C -0.11806 -0.12964 -0.09931 -0.15001 -0.08056 -0.17038 E">
                                      <p:cBhvr>
                                        <p:cTn id="343" dur="3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7338 L 0.57483 -0.07338 E">
                                      <p:cBhvr>
                                        <p:cTn id="346" dur="5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56 -0.17037 L -0.08056 -0.24375 E">
                                      <p:cBhvr>
                                        <p:cTn id="349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47 -0.24144 L 0.13003 -0.24144 E">
                                      <p:cBhvr>
                                        <p:cTn id="351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evt="end">
                                        <p:tn val="350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3 -0.07338 L 0.57483 0.01065 E">
                                      <p:cBhvr>
                                        <p:cTn id="354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2 0.01065 C 0.59479 0.04537 0.61493 0.08033 0.61371 0.1125 C 0.6125 0.14468 0.58385 0.1632 0.56788 0.20324 C 0.55191 0.24329 0.53159 0.30625 0.51788 0.35324 C 0.50416 0.40023 0.49288 0.45718 0.48593 0.48472 C 0.47899 0.51227 0.4776 0.51505 0.47621 0.51806 E">
                                      <p:cBhvr>
                                        <p:cTn id="356" dur="5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53"/>
              <p:cNvSpPr txBox="1"/>
              <p:nvPr/>
            </p:nvSpPr>
            <p:spPr>
              <a:xfrm>
                <a:off x="1932120" y="260280"/>
                <a:ext cx="4484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01" name="Line 8"/>
          <p:cNvSpPr/>
          <p:nvPr/>
        </p:nvSpPr>
        <p:spPr>
          <a:xfrm flipH="1">
            <a:off x="3360600" y="83664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5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55"/>
              <p:cNvSpPr txBox="1"/>
              <p:nvPr/>
            </p:nvSpPr>
            <p:spPr>
              <a:xfrm>
                <a:off x="1835280" y="981000"/>
                <a:ext cx="4681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H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4" name="Line 11"/>
          <p:cNvSpPr/>
          <p:nvPr/>
        </p:nvSpPr>
        <p:spPr>
          <a:xfrm flipH="1">
            <a:off x="3346560" y="155736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2"/>
          <p:cNvSpPr/>
          <p:nvPr/>
        </p:nvSpPr>
        <p:spPr>
          <a:xfrm flipH="1">
            <a:off x="3995280" y="900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3"/>
          <p:cNvSpPr/>
          <p:nvPr/>
        </p:nvSpPr>
        <p:spPr>
          <a:xfrm flipH="1">
            <a:off x="3779640" y="892080"/>
            <a:ext cx="21564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4"/>
          <p:cNvSpPr/>
          <p:nvPr/>
        </p:nvSpPr>
        <p:spPr>
          <a:xfrm flipH="1">
            <a:off x="1332000" y="1687680"/>
            <a:ext cx="244800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5"/>
          <p:cNvSpPr/>
          <p:nvPr/>
        </p:nvSpPr>
        <p:spPr>
          <a:xfrm flipH="1">
            <a:off x="4067280" y="155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6"/>
          <p:cNvSpPr/>
          <p:nvPr/>
        </p:nvSpPr>
        <p:spPr>
          <a:xfrm flipH="1">
            <a:off x="3924000" y="1557360"/>
            <a:ext cx="14292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7"/>
          <p:cNvSpPr/>
          <p:nvPr/>
        </p:nvSpPr>
        <p:spPr>
          <a:xfrm flipH="1">
            <a:off x="2268360" y="1844640"/>
            <a:ext cx="165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5435640" y="9079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9"/>
          <p:cNvSpPr/>
          <p:nvPr/>
        </p:nvSpPr>
        <p:spPr>
          <a:xfrm>
            <a:off x="6443640" y="907920"/>
            <a:ext cx="129708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5292720" y="155736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6227640" y="1557360"/>
            <a:ext cx="100836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2"/>
          <p:cNvSpPr/>
          <p:nvPr/>
        </p:nvSpPr>
        <p:spPr>
          <a:xfrm>
            <a:off x="498240" y="242100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(-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сстано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6659640" y="2421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+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кис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56"/>
              <p:cNvSpPr txBox="1"/>
              <p:nvPr/>
            </p:nvSpPr>
            <p:spPr>
              <a:xfrm>
                <a:off x="539640" y="2852640"/>
                <a:ext cx="24177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7"/>
              <p:cNvSpPr txBox="1"/>
              <p:nvPr/>
            </p:nvSpPr>
            <p:spPr>
              <a:xfrm>
                <a:off x="5003640" y="2924280"/>
                <a:ext cx="3654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58"/>
              <p:cNvSpPr txBox="1"/>
              <p:nvPr/>
            </p:nvSpPr>
            <p:spPr>
              <a:xfrm>
                <a:off x="1187280" y="3500280"/>
                <a:ext cx="2303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0" name="Line 30"/>
          <p:cNvSpPr/>
          <p:nvPr/>
        </p:nvSpPr>
        <p:spPr>
          <a:xfrm>
            <a:off x="1192320" y="3497400"/>
            <a:ext cx="0" cy="7920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1"/>
          <p:cNvSpPr/>
          <p:nvPr/>
        </p:nvSpPr>
        <p:spPr>
          <a:xfrm>
            <a:off x="4211640" y="3510000"/>
            <a:ext cx="0" cy="7920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2"/>
          <p:cNvSpPr/>
          <p:nvPr/>
        </p:nvSpPr>
        <p:spPr>
          <a:xfrm>
            <a:off x="898560" y="36972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4178160" y="3492360"/>
            <a:ext cx="57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4"/>
          <p:cNvSpPr/>
          <p:nvPr/>
        </p:nvSpPr>
        <p:spPr>
          <a:xfrm>
            <a:off x="4440240" y="3510000"/>
            <a:ext cx="0" cy="7920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59"/>
              <p:cNvSpPr txBox="1"/>
              <p:nvPr/>
            </p:nvSpPr>
            <p:spPr>
              <a:xfrm>
                <a:off x="4716360" y="3500280"/>
                <a:ext cx="21607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60"/>
              <p:cNvSpPr txBox="1"/>
              <p:nvPr/>
            </p:nvSpPr>
            <p:spPr>
              <a:xfrm>
                <a:off x="4716360" y="3860640"/>
                <a:ext cx="295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OH</m:t>
                    </m:r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61"/>
              <p:cNvSpPr txBox="1"/>
              <p:nvPr/>
            </p:nvSpPr>
            <p:spPr>
              <a:xfrm>
                <a:off x="1187280" y="3933720"/>
                <a:ext cx="302580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8" name="Line 39"/>
          <p:cNvSpPr/>
          <p:nvPr/>
        </p:nvSpPr>
        <p:spPr>
          <a:xfrm flipH="1">
            <a:off x="4500360" y="4437000"/>
            <a:ext cx="388764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1"/>
          <p:cNvSpPr/>
          <p:nvPr/>
        </p:nvSpPr>
        <p:spPr>
          <a:xfrm>
            <a:off x="4716360" y="3500280"/>
            <a:ext cx="0" cy="79236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3"/>
          <p:cNvSpPr/>
          <p:nvPr/>
        </p:nvSpPr>
        <p:spPr>
          <a:xfrm>
            <a:off x="4394160" y="3500280"/>
            <a:ext cx="574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62"/>
              <p:cNvSpPr txBox="1"/>
              <p:nvPr/>
            </p:nvSpPr>
            <p:spPr>
              <a:xfrm>
                <a:off x="4140360" y="4437000"/>
                <a:ext cx="4176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OH</m:t>
                    </m:r>
                    <m:r>
                      <m:t xml:space="preserve">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63"/>
              <p:cNvSpPr txBox="1"/>
              <p:nvPr/>
            </p:nvSpPr>
            <p:spPr>
              <a:xfrm>
                <a:off x="1908000" y="4869000"/>
                <a:ext cx="64915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64"/>
              <p:cNvSpPr txBox="1"/>
              <p:nvPr/>
            </p:nvSpPr>
            <p:spPr>
              <a:xfrm>
                <a:off x="2484360" y="5445000"/>
                <a:ext cx="5742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Э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ток</m:t>
                        </m:r>
                      </m:e>
                    </m:acc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́лиз — физико-химический процесс, состоящий в выделении на электродах составных частей растворённых веществ или других веществ, являющихся результатом вторичных реакций на электродах, которое возникает при прохождении электрического тока через раствор либо расплав электрол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39408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4427640" y="198900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Схема 1" descr=""/>
          <p:cNvPicPr/>
          <p:nvPr/>
        </p:nvPicPr>
        <p:blipFill>
          <a:blip r:embed="rId1"/>
          <a:stretch/>
        </p:blipFill>
        <p:spPr>
          <a:xfrm>
            <a:off x="158760" y="-36360"/>
            <a:ext cx="8991720" cy="65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Скругленный прямоугольник 1"/>
          <p:cNvSpPr/>
          <p:nvPr/>
        </p:nvSpPr>
        <p:spPr>
          <a:xfrm>
            <a:off x="611280" y="981000"/>
            <a:ext cx="7921440" cy="5184720"/>
          </a:xfrm>
          <a:prstGeom prst="roundRect">
            <a:avLst>
              <a:gd name="adj" fmla="val 3194"/>
            </a:avLst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ласти применения электролиз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196640"/>
            <a:ext cx="82296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химической промышленности – получ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огенов, щелоче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металлургия – получают металлы, в том числе щелочные и щелочно-земельные электролизом расплавов с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аллообрабатывающая промышленность – гальваностегия – нанесение металлических покрытий на изделия в декоративных целях, в целях защиты от коррозии (хромирование, никелирование, золочение, серебрение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ьванопластика – снятие копий с изделий (скульптуры, грампластинки, рельефные рисунки). Внедрил Б. С. Якоби, под руководством которого таким образом изготовили украшения фронтона Большого театра, Исаакиевского Собора, Эрмита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истка металлов – рафинирование (очист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, Pb, Cu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электрохимическим метод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5-14"/>
          <p:cNvPicPr/>
          <p:nvPr/>
        </p:nvPicPr>
        <p:blipFill>
          <a:blip r:embed="rId1"/>
          <a:stretch/>
        </p:blipFill>
        <p:spPr>
          <a:xfrm>
            <a:off x="533520" y="609480"/>
            <a:ext cx="8305560" cy="578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71640" y="1773360"/>
            <a:ext cx="7129440" cy="4464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403280" y="981000"/>
            <a:ext cx="151308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156360" y="981000"/>
            <a:ext cx="151272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 flipV="1">
            <a:off x="190800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870200" y="404640"/>
            <a:ext cx="20160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 flipV="1">
            <a:off x="716436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5148360" y="404640"/>
            <a:ext cx="20509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3851280" y="189000"/>
            <a:ext cx="129708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4427640" y="26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2"/>
          <p:cNvSpPr/>
          <p:nvPr/>
        </p:nvSpPr>
        <p:spPr>
          <a:xfrm>
            <a:off x="4643280" y="333360"/>
            <a:ext cx="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24000" y="549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5867280" y="549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1619280" y="1125360"/>
            <a:ext cx="10098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2"/>
          <p:cNvSpPr/>
          <p:nvPr/>
        </p:nvSpPr>
        <p:spPr>
          <a:xfrm>
            <a:off x="6443640" y="1125360"/>
            <a:ext cx="10080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2136600" y="134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>
            <a:off x="1920960" y="1557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6732720" y="1565280"/>
            <a:ext cx="431640" cy="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6"/>
          <p:cNvSpPr/>
          <p:nvPr/>
        </p:nvSpPr>
        <p:spPr>
          <a:xfrm>
            <a:off x="2268360" y="350028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8"/>
          <p:cNvSpPr/>
          <p:nvPr/>
        </p:nvSpPr>
        <p:spPr>
          <a:xfrm>
            <a:off x="2627280" y="5661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9"/>
          <p:cNvSpPr/>
          <p:nvPr/>
        </p:nvSpPr>
        <p:spPr>
          <a:xfrm>
            <a:off x="1908000" y="5013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0"/>
          <p:cNvSpPr/>
          <p:nvPr/>
        </p:nvSpPr>
        <p:spPr>
          <a:xfrm>
            <a:off x="2627280" y="458136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1"/>
          <p:cNvSpPr/>
          <p:nvPr/>
        </p:nvSpPr>
        <p:spPr>
          <a:xfrm>
            <a:off x="2835360" y="368784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2"/>
          <p:cNvSpPr/>
          <p:nvPr/>
        </p:nvSpPr>
        <p:spPr>
          <a:xfrm>
            <a:off x="1979640" y="4005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3"/>
          <p:cNvSpPr/>
          <p:nvPr/>
        </p:nvSpPr>
        <p:spPr>
          <a:xfrm>
            <a:off x="2124000" y="2997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4"/>
          <p:cNvSpPr/>
          <p:nvPr/>
        </p:nvSpPr>
        <p:spPr>
          <a:xfrm>
            <a:off x="2700360" y="27082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5"/>
          <p:cNvSpPr/>
          <p:nvPr/>
        </p:nvSpPr>
        <p:spPr>
          <a:xfrm>
            <a:off x="2627280" y="206064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6"/>
          <p:cNvSpPr/>
          <p:nvPr/>
        </p:nvSpPr>
        <p:spPr>
          <a:xfrm>
            <a:off x="2556000" y="126828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7"/>
          <p:cNvSpPr/>
          <p:nvPr/>
        </p:nvSpPr>
        <p:spPr>
          <a:xfrm>
            <a:off x="7020000" y="56610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8"/>
          <p:cNvSpPr/>
          <p:nvPr/>
        </p:nvSpPr>
        <p:spPr>
          <a:xfrm>
            <a:off x="6516720" y="57340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49"/>
          <p:cNvSpPr/>
          <p:nvPr/>
        </p:nvSpPr>
        <p:spPr>
          <a:xfrm>
            <a:off x="6372360" y="515772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0"/>
          <p:cNvSpPr/>
          <p:nvPr/>
        </p:nvSpPr>
        <p:spPr>
          <a:xfrm>
            <a:off x="7236000" y="5229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1"/>
          <p:cNvSpPr/>
          <p:nvPr/>
        </p:nvSpPr>
        <p:spPr>
          <a:xfrm>
            <a:off x="6659640" y="479736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2"/>
          <p:cNvSpPr/>
          <p:nvPr/>
        </p:nvSpPr>
        <p:spPr>
          <a:xfrm>
            <a:off x="6588000" y="4437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3"/>
          <p:cNvSpPr/>
          <p:nvPr/>
        </p:nvSpPr>
        <p:spPr>
          <a:xfrm>
            <a:off x="6300720" y="39337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4"/>
          <p:cNvSpPr/>
          <p:nvPr/>
        </p:nvSpPr>
        <p:spPr>
          <a:xfrm>
            <a:off x="6804000" y="364500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5"/>
          <p:cNvSpPr/>
          <p:nvPr/>
        </p:nvSpPr>
        <p:spPr>
          <a:xfrm>
            <a:off x="7020000" y="314172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6"/>
          <p:cNvSpPr/>
          <p:nvPr/>
        </p:nvSpPr>
        <p:spPr>
          <a:xfrm>
            <a:off x="6588000" y="285264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7"/>
          <p:cNvSpPr/>
          <p:nvPr/>
        </p:nvSpPr>
        <p:spPr>
          <a:xfrm>
            <a:off x="7164360" y="2565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8"/>
          <p:cNvSpPr/>
          <p:nvPr/>
        </p:nvSpPr>
        <p:spPr>
          <a:xfrm>
            <a:off x="6516720" y="242100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59"/>
          <p:cNvSpPr/>
          <p:nvPr/>
        </p:nvSpPr>
        <p:spPr>
          <a:xfrm>
            <a:off x="1873080" y="9079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60"/>
              <p:cNvSpPr txBox="1"/>
              <p:nvPr/>
            </p:nvSpPr>
            <p:spPr>
              <a:xfrm>
                <a:off x="4368960" y="3830760"/>
                <a:ext cx="5508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1"/>
              <p:cNvSpPr txBox="1"/>
              <p:nvPr/>
            </p:nvSpPr>
            <p:spPr>
              <a:xfrm>
                <a:off x="3851280" y="3645000"/>
                <a:ext cx="3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Line 69"/>
          <p:cNvSpPr/>
          <p:nvPr/>
        </p:nvSpPr>
        <p:spPr>
          <a:xfrm flipH="1">
            <a:off x="3733560" y="36831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74"/>
          <p:cNvGrpSpPr/>
          <p:nvPr/>
        </p:nvGrpSpPr>
        <p:grpSpPr>
          <a:xfrm>
            <a:off x="4788000" y="3860640"/>
            <a:ext cx="144360" cy="144720"/>
            <a:chOff x="4788000" y="3860640"/>
            <a:chExt cx="144360" cy="144720"/>
          </a:xfrm>
        </p:grpSpPr>
        <p:sp>
          <p:nvSpPr>
            <p:cNvPr id="163" name="Line 71"/>
            <p:cNvSpPr/>
            <p:nvPr/>
          </p:nvSpPr>
          <p:spPr>
            <a:xfrm>
              <a:off x="4788000" y="3933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3"/>
            <p:cNvSpPr/>
            <p:nvPr/>
          </p:nvSpPr>
          <p:spPr>
            <a:xfrm>
              <a:off x="4871880" y="3860640"/>
              <a:ext cx="0" cy="1447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81"/>
          <p:cNvGrpSpPr/>
          <p:nvPr/>
        </p:nvGrpSpPr>
        <p:grpSpPr>
          <a:xfrm>
            <a:off x="5796000" y="4581360"/>
            <a:ext cx="647640" cy="648000"/>
            <a:chOff x="5796000" y="4581360"/>
            <a:chExt cx="647640" cy="648000"/>
          </a:xfrm>
        </p:grpSpPr>
        <p:sp>
          <p:nvSpPr>
            <p:cNvPr id="166" name="Oval 78"/>
            <p:cNvSpPr/>
            <p:nvPr/>
          </p:nvSpPr>
          <p:spPr>
            <a:xfrm>
              <a:off x="5796000" y="4581360"/>
              <a:ext cx="647640" cy="648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0"/>
            <p:cNvSpPr/>
            <p:nvPr/>
          </p:nvSpPr>
          <p:spPr>
            <a:xfrm>
              <a:off x="5869080" y="47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2"/>
              <p:cNvSpPr txBox="1"/>
              <p:nvPr/>
            </p:nvSpPr>
            <p:spPr>
              <a:xfrm>
                <a:off x="2987640" y="5805360"/>
                <a:ext cx="432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0047 L -5.55556E-007 -0.07338 E">
                                      <p:cBhvr>
                                        <p:cTn id="3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7338 L 0.57483 -0.07338 E">
                                      <p:cBhvr>
                                        <p:cTn id="34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487 C -0.01388 -0.04607 -0.02899 -0.08704 -0.04444 -0.08635 C -0.05989 -0.08565 -0.08316 -0.01528 -0.09166 -0.00116 E">
                                      <p:cBhvr>
                                        <p:cTn id="36" dur="3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28 -0.04121 -0.03038 -0.08218 -0.04583 -0.08148 C -0.06128 -0.08079 -0.08455 -0.01042 -0.09305 0.0037 E">
                                      <p:cBhvr>
                                        <p:cTn id="39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evt="end">
                                        <p:tn val="38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0.01435 0.00781 0.02893 0.01944 0.04444 C 0.03107 0.05995 0.05069 0.07986 0.06944 0.09259 C 0.08819 0.10532 0.12274 0.11666 0.13194 0.12037 C 0.14114 0.12407 0.13298 0.11944 0.125 0.11481 E">
                                      <p:cBhvr>
                                        <p:cTn id="42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0.01435 0.00781 0.02893 0.01944 0.04444 C 0.03107 0.05995 0.05069 0.07986 0.06944 0.09259 C 0.08819 0.10532 0.12274 0.11666 0.13194 0.12037 C 0.14114 0.12407 0.13298 0.11944 0.125 0.11481 E">
                                      <p:cBhvr>
                                        <p:cTn id="45" dur="5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evt="end">
                                        <p:tn val="44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0.00371 C -0.01441 0.02431 -0.02865 0.04514 -0.04861 0.03704 C -0.06858 0.02894 -0.10261 0.01274 -0.11945 -0.04444 C -0.13629 -0.10162 -0.15208 -0.2456 -0.15 -0.30555 C -0.14792 -0.36551 -0.11458 -0.37384 -0.10695 -0.4037 C -0.09931 -0.43356 -0.10486 -0.47152 -0.10417 -0.48518 E">
                                      <p:cBhvr>
                                        <p:cTn id="49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0521 -0.4787 L 0.10729 -0.4787 E">
                                      <p:cBhvr>
                                        <p:cTn id="52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evt="end">
                                        <p:tn val="51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3 -0.07338 L 0.57483 0.01065 E">
                                      <p:cBhvr>
                                        <p:cTn id="5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2 0.01065 C 0.59479 0.04537 0.61493 0.08033 0.61371 0.1125 C 0.6125 0.14468 0.58385 0.1632 0.56788 0.20324 C 0.55191 0.24329 0.53159 0.30625 0.51788 0.35324 C 0.50416 0.40023 0.49288 0.45718 0.48593 0.48472 C 0.47899 0.51227 0.4776 0.51505 0.47621 0.51806 E">
                                      <p:cBhvr>
                                        <p:cTn id="57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3472 C 0.03993 -0.06389 0.07205 -0.09305 0.08437 -0.12731 C 0.0967 -0.16157 0.0717 -0.19583 0.08159 -0.24027 C 0.09149 -0.28472 0.14409 -0.32847 0.14409 -0.39398 C 0.14409 -0.45949 0.11284 -0.54629 0.08159 -0.63287 E">
                                      <p:cBhvr>
                                        <p:cTn id="61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электролиза расплав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ovr3"/>
          <p:cNvPicPr/>
          <p:nvPr/>
        </p:nvPicPr>
        <p:blipFill>
          <a:blip r:embed="rId1"/>
          <a:stretch/>
        </p:blipFill>
        <p:spPr>
          <a:xfrm>
            <a:off x="0" y="1676520"/>
            <a:ext cx="8991720" cy="4035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электролиза растворов сол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ovr5"/>
          <p:cNvPicPr/>
          <p:nvPr/>
        </p:nvPicPr>
        <p:blipFill>
          <a:blip r:embed="rId1"/>
          <a:stretch/>
        </p:blipFill>
        <p:spPr>
          <a:xfrm>
            <a:off x="228600" y="2438280"/>
            <a:ext cx="7772400" cy="2667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82"/>
              <p:cNvSpPr txBox="1"/>
              <p:nvPr/>
            </p:nvSpPr>
            <p:spPr>
              <a:xfrm>
                <a:off x="6566040" y="2598840"/>
                <a:ext cx="204480" cy="1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83"/>
              <p:cNvSpPr txBox="1"/>
              <p:nvPr/>
            </p:nvSpPr>
            <p:spPr>
              <a:xfrm>
                <a:off x="4659480" y="1852560"/>
                <a:ext cx="6318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Rectangle 4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971640" y="1773360"/>
            <a:ext cx="7129440" cy="4464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403280" y="981000"/>
            <a:ext cx="151308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156360" y="981000"/>
            <a:ext cx="151272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V="1">
            <a:off x="190800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1870200" y="404640"/>
            <a:ext cx="20160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716436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5148360" y="404640"/>
            <a:ext cx="20509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851280" y="189000"/>
            <a:ext cx="129708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4427640" y="26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4643280" y="333360"/>
            <a:ext cx="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2124000" y="549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5867280" y="549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7"/>
          <p:cNvSpPr/>
          <p:nvPr/>
        </p:nvSpPr>
        <p:spPr>
          <a:xfrm>
            <a:off x="1619280" y="1125360"/>
            <a:ext cx="10098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6443640" y="1125360"/>
            <a:ext cx="10080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2136600" y="134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1920960" y="1557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1"/>
          <p:cNvSpPr/>
          <p:nvPr/>
        </p:nvSpPr>
        <p:spPr>
          <a:xfrm>
            <a:off x="6732720" y="1565280"/>
            <a:ext cx="431640" cy="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2"/>
          <p:cNvSpPr/>
          <p:nvPr/>
        </p:nvSpPr>
        <p:spPr>
          <a:xfrm>
            <a:off x="2771640" y="335772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3"/>
          <p:cNvSpPr/>
          <p:nvPr/>
        </p:nvSpPr>
        <p:spPr>
          <a:xfrm>
            <a:off x="2627280" y="5661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4"/>
          <p:cNvSpPr/>
          <p:nvPr/>
        </p:nvSpPr>
        <p:spPr>
          <a:xfrm>
            <a:off x="1908000" y="5013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5"/>
          <p:cNvSpPr/>
          <p:nvPr/>
        </p:nvSpPr>
        <p:spPr>
          <a:xfrm>
            <a:off x="2654280" y="44038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6"/>
          <p:cNvSpPr/>
          <p:nvPr/>
        </p:nvSpPr>
        <p:spPr>
          <a:xfrm>
            <a:off x="2771640" y="3789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7"/>
          <p:cNvSpPr/>
          <p:nvPr/>
        </p:nvSpPr>
        <p:spPr>
          <a:xfrm>
            <a:off x="1979640" y="4005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8"/>
          <p:cNvSpPr/>
          <p:nvPr/>
        </p:nvSpPr>
        <p:spPr>
          <a:xfrm>
            <a:off x="2124000" y="2997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9"/>
          <p:cNvSpPr/>
          <p:nvPr/>
        </p:nvSpPr>
        <p:spPr>
          <a:xfrm>
            <a:off x="2700360" y="27082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2627280" y="206064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2556000" y="126828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2"/>
          <p:cNvSpPr/>
          <p:nvPr/>
        </p:nvSpPr>
        <p:spPr>
          <a:xfrm>
            <a:off x="7020000" y="56610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3"/>
          <p:cNvSpPr/>
          <p:nvPr/>
        </p:nvSpPr>
        <p:spPr>
          <a:xfrm>
            <a:off x="6516720" y="57340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4"/>
          <p:cNvSpPr/>
          <p:nvPr/>
        </p:nvSpPr>
        <p:spPr>
          <a:xfrm>
            <a:off x="6372360" y="515772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5"/>
          <p:cNvSpPr/>
          <p:nvPr/>
        </p:nvSpPr>
        <p:spPr>
          <a:xfrm>
            <a:off x="7236000" y="5229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6"/>
          <p:cNvSpPr/>
          <p:nvPr/>
        </p:nvSpPr>
        <p:spPr>
          <a:xfrm>
            <a:off x="6659640" y="479736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7"/>
          <p:cNvSpPr/>
          <p:nvPr/>
        </p:nvSpPr>
        <p:spPr>
          <a:xfrm>
            <a:off x="6588000" y="4437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8"/>
          <p:cNvSpPr/>
          <p:nvPr/>
        </p:nvSpPr>
        <p:spPr>
          <a:xfrm>
            <a:off x="6300720" y="39337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39"/>
          <p:cNvSpPr/>
          <p:nvPr/>
        </p:nvSpPr>
        <p:spPr>
          <a:xfrm>
            <a:off x="6804000" y="364500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0"/>
          <p:cNvSpPr/>
          <p:nvPr/>
        </p:nvSpPr>
        <p:spPr>
          <a:xfrm>
            <a:off x="7020000" y="314172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1"/>
          <p:cNvSpPr/>
          <p:nvPr/>
        </p:nvSpPr>
        <p:spPr>
          <a:xfrm>
            <a:off x="6588000" y="285264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2"/>
          <p:cNvSpPr/>
          <p:nvPr/>
        </p:nvSpPr>
        <p:spPr>
          <a:xfrm>
            <a:off x="7164360" y="2565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43"/>
          <p:cNvSpPr/>
          <p:nvPr/>
        </p:nvSpPr>
        <p:spPr>
          <a:xfrm>
            <a:off x="6516720" y="242100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44"/>
          <p:cNvSpPr/>
          <p:nvPr/>
        </p:nvSpPr>
        <p:spPr>
          <a:xfrm>
            <a:off x="1873080" y="9079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84"/>
              <p:cNvSpPr txBox="1"/>
              <p:nvPr/>
            </p:nvSpPr>
            <p:spPr>
              <a:xfrm>
                <a:off x="3708360" y="3284640"/>
                <a:ext cx="3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Line 50"/>
          <p:cNvSpPr/>
          <p:nvPr/>
        </p:nvSpPr>
        <p:spPr>
          <a:xfrm flipH="1">
            <a:off x="3622320" y="3322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85"/>
              <p:cNvSpPr txBox="1"/>
              <p:nvPr/>
            </p:nvSpPr>
            <p:spPr>
              <a:xfrm>
                <a:off x="5216400" y="4653000"/>
                <a:ext cx="648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86"/>
              <p:cNvSpPr txBox="1"/>
              <p:nvPr/>
            </p:nvSpPr>
            <p:spPr>
              <a:xfrm>
                <a:off x="3564000" y="4365720"/>
                <a:ext cx="3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67"/>
          <p:cNvSpPr/>
          <p:nvPr/>
        </p:nvSpPr>
        <p:spPr>
          <a:xfrm flipH="1">
            <a:off x="3492360" y="4365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87"/>
              <p:cNvSpPr txBox="1"/>
              <p:nvPr/>
            </p:nvSpPr>
            <p:spPr>
              <a:xfrm>
                <a:off x="5435640" y="2205000"/>
                <a:ext cx="4446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Group 72"/>
          <p:cNvGrpSpPr/>
          <p:nvPr/>
        </p:nvGrpSpPr>
        <p:grpSpPr>
          <a:xfrm>
            <a:off x="5724360" y="2205000"/>
            <a:ext cx="144720" cy="169920"/>
            <a:chOff x="5724360" y="2205000"/>
            <a:chExt cx="144720" cy="169920"/>
          </a:xfrm>
        </p:grpSpPr>
        <p:sp>
          <p:nvSpPr>
            <p:cNvPr id="230" name="Line 70"/>
            <p:cNvSpPr/>
            <p:nvPr/>
          </p:nvSpPr>
          <p:spPr>
            <a:xfrm flipH="1">
              <a:off x="5724360" y="2278080"/>
              <a:ext cx="14472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1"/>
            <p:cNvSpPr/>
            <p:nvPr/>
          </p:nvSpPr>
          <p:spPr>
            <a:xfrm>
              <a:off x="5805360" y="2205000"/>
              <a:ext cx="0" cy="1699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2" name="Object 88"/>
              <p:cNvSpPr txBox="1"/>
              <p:nvPr/>
            </p:nvSpPr>
            <p:spPr>
              <a:xfrm>
                <a:off x="5435640" y="5300640"/>
                <a:ext cx="4446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3" name="Group 74"/>
          <p:cNvGrpSpPr/>
          <p:nvPr/>
        </p:nvGrpSpPr>
        <p:grpSpPr>
          <a:xfrm>
            <a:off x="5724360" y="5300640"/>
            <a:ext cx="144720" cy="169920"/>
            <a:chOff x="5724360" y="5300640"/>
            <a:chExt cx="144720" cy="169920"/>
          </a:xfrm>
        </p:grpSpPr>
        <p:sp>
          <p:nvSpPr>
            <p:cNvPr id="234" name="Line 75"/>
            <p:cNvSpPr/>
            <p:nvPr/>
          </p:nvSpPr>
          <p:spPr>
            <a:xfrm flipH="1">
              <a:off x="5724360" y="5373720"/>
              <a:ext cx="14472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76"/>
            <p:cNvSpPr/>
            <p:nvPr/>
          </p:nvSpPr>
          <p:spPr>
            <a:xfrm>
              <a:off x="5805360" y="5300640"/>
              <a:ext cx="0" cy="1699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7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89"/>
              <p:cNvSpPr txBox="1"/>
              <p:nvPr/>
            </p:nvSpPr>
            <p:spPr>
              <a:xfrm>
                <a:off x="5219640" y="2852640"/>
                <a:ext cx="720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8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90"/>
              <p:cNvSpPr txBox="1"/>
              <p:nvPr/>
            </p:nvSpPr>
            <p:spPr>
              <a:xfrm>
                <a:off x="5173560" y="4017960"/>
                <a:ext cx="719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91"/>
              <p:cNvSpPr txBox="1"/>
              <p:nvPr/>
            </p:nvSpPr>
            <p:spPr>
              <a:xfrm>
                <a:off x="2987640" y="5805360"/>
                <a:ext cx="432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92"/>
              <p:cNvSpPr txBox="1"/>
              <p:nvPr/>
            </p:nvSpPr>
            <p:spPr>
              <a:xfrm>
                <a:off x="5724360" y="4797360"/>
                <a:ext cx="432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0047 L -5.55556E-007 -0.07338 E">
                                      <p:cBhvr>
                                        <p:cTn id="11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28 -0.04121 -0.03038 -0.08218 -0.04583 -0.08148 C -0.06128 -0.08079 -0.08455 -0.01042 -0.09305 0.0037 E">
                                      <p:cBhvr>
                                        <p:cTn id="112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28 -0.04121 -0.03038 -0.08218 -0.04583 -0.08148 C -0.06128 -0.08079 -0.08455 -0.01042 -0.09305 0.0037 E">
                                      <p:cBhvr>
                                        <p:cTn id="115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1551 C -0.01389 -0.05671 -0.02899 -0.09769 -0.04444 -0.09699 C -0.0599 -0.0963 -0.08316 -0.02593 -0.09167 -0.01181 E">
                                      <p:cBhvr>
                                        <p:cTn id="118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28 -0.04121 -0.03038 -0.08218 -0.04583 -0.08148 C -0.06128 -0.08079 -0.08455 -0.01042 -0.09305 0.0037 E">
                                      <p:cBhvr>
                                        <p:cTn id="121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66667E-006 -4.44444E-006 C 0.02031 -0.00231 0.04114 -0.00439 0.05104 -4.44444E-006 C 0.06094 0.0044 0.05521 0.01505 0.05972 0.02593 C 0.06441 0.03681 0.06857 0.05834 0.07917 0.06482 C 0.08976 0.0713 0.11111 0.06505 0.12309 0.06482 C 0.13524 0.06459 0.1467 0.0632 0.15139 0.06297 E">
                                      <p:cBhvr>
                                        <p:cTn id="124" dur="5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-1.85185E-006 C 0.00486 0.02639 0.01007 0.05278 0.01667 0.06296 C 0.02361 0.07338 0.03247 0.06435 0.03959 0.06111 C 0.0467 0.05764 0.05313 0.05 0.05955 0.04259 E">
                                      <p:cBhvr>
                                        <p:cTn id="127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evt="end">
                                        <p:tn val="126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C -0.01007 0.00741 -0.02014 0.01505 -0.02639 0.01112 C -0.03264 0.00718 -0.03507 -0.00856 -0.0375 -0.02407 E">
                                      <p:cBhvr>
                                        <p:cTn id="131" dur="5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7338 L 0.57483 -0.07338 E">
                                      <p:cBhvr>
                                        <p:cTn id="133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3 -0.07338 L 0.57483 0.01065 E">
                                      <p:cBhvr>
                                        <p:cTn id="13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6.2963E-006 C -0.0052 -0.00462 -0.01041 -0.00902 -0.01666 -0.01666 C -0.02291 -0.0243 -0.02708 -0.04536 -0.03749 -0.04629 C -0.04791 -0.04722 -0.06354 -0.03472 -0.07916 -0.02222 E">
                                      <p:cBhvr>
                                        <p:cTn id="150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C -0.00208 0.02847 -0.00399 0.05717 -0.01389 0.06296 C -0.02378 0.06875 -0.04184 0.05185 -0.05972 0.03518 E">
                                      <p:cBhvr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C 0.03004 -0.03148 0.06025 -0.06273 0.07188 -0.09931 C 0.08351 -0.13611 0.0599 -0.17269 0.06928 -0.22037 C 0.07848 -0.26806 0.1283 -0.31482 0.1283 -0.38495 C 0.1283 -0.45509 0.09879 -0.54792 0.06928 -0.64051 E">
                                      <p:cBhvr>
                                        <p:cTn id="172" dur="5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1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0069 C -0.0085 0.00856 -0.01701 0.01666 -0.03142 0.01296 C -0.04583 0.00949 -0.06632 -0.00533 -0.08663 -0.02014 E">
                                      <p:cBhvr>
                                        <p:cTn id="175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3 0.01041 C -0.01996 0.01875 -0.04045 0.02731 -0.05937 0.02523 C -0.07812 0.02337 -0.09548 0.01111 -0.11284 -0.00093 E">
                                      <p:cBhvr>
                                        <p:cTn id="177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C -0.00174 -0.0574 -0.00347 -0.11458 -0.01667 -0.15926 C -0.02986 -0.20393 -0.07309 -0.21944 -0.07917 -0.26851 C -0.08524 -0.31759 -0.0691 -0.38564 -0.05278 -0.4537 E">
                                      <p:cBhvr>
                                        <p:cTn id="181" dur="5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evt="end">
                                        <p:tn val="180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3 0.01065 C 0.59479 0.04537 0.61493 0.08032 0.61372 0.1125 C 0.6125 0.14467 0.58386 0.16319 0.56788 0.20324 C 0.55191 0.24328 0.5316 0.30625 0.51788 0.35324 C 0.50417 0.40023 0.49288 0.45717 0.48594 0.48472 C 0.47899 0.51227 0.47761 0.51504 0.47622 0.51805 E">
                                      <p:cBhvr>
                                        <p:cTn id="185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C 0.00278 -0.00047 0.00556 -0.0007 -0.00833 0.00555 C -0.02222 0.0118 -0.0625 0.07801 -0.08333 0.03703 C -0.10416 -0.00394 -0.13073 -0.17523 -0.13333 -0.24074 C -0.13594 -0.30625 -0.10434 -0.33634 -0.09861 -0.35556 E">
                                      <p:cBhvr>
                                        <p:cTn id="187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61 -0.35556 L -0.09861 -0.42894 E">
                                      <p:cBhvr>
                                        <p:cTn id="190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0.43056 L 0.11424 -0.43056 E">
                                      <p:cBhvr>
                                        <p:cTn id="193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олиз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ovr4"/>
          <p:cNvPicPr/>
          <p:nvPr/>
        </p:nvPicPr>
        <p:blipFill>
          <a:blip r:embed="rId1"/>
          <a:stretch/>
        </p:blipFill>
        <p:spPr>
          <a:xfrm>
            <a:off x="533520" y="2133720"/>
            <a:ext cx="6553080" cy="3363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85840" y="928800"/>
            <a:ext cx="820872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 m вещества, выделившегося на электроде, прямо пропорциональна заряду Q, прошедшему через электрол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 = kQ = k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закон электро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ину k на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ктрохимическим эквивал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ы Фарадея показали, что масса выделившегося при электролизе вещества зависит не только от величины заряда, но и от рода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Закон электро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9" descr=""/>
          <p:cNvPicPr/>
          <p:nvPr/>
        </p:nvPicPr>
        <p:blipFill>
          <a:blip r:embed="rId3"/>
          <a:stretch/>
        </p:blipFill>
        <p:spPr>
          <a:xfrm>
            <a:off x="571680" y="3573360"/>
            <a:ext cx="7572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Admin</cp:lastModifiedBy>
  <dcterms:modified xsi:type="dcterms:W3CDTF">2012-12-19T09:36:4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